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DF2-D1A7-421A-80FB-2DAB995D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E9A1-731E-4D83-893A-D8453178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333E-B048-4C88-B42B-0DB02E1D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D98-730E-4F85-AEC9-D7E429B6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3658-DE1B-408D-A2FC-5A5B68A8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3B1C-156A-4E7D-B7B5-C98D23AD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41BE-11C3-4E30-8629-F92A8035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E03B-904B-444C-8C07-4F50573F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AE42-AB49-4E12-84AB-32B32FC3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4900-48A3-4B70-AC33-929DB5AA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8703-7930-4536-82E6-4CA0B238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C7D-01FC-411E-90C4-2FEB3488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2942-4353-4F4D-94FD-7FD44BE5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ACFB-9AB7-436C-B6EB-F1FFED08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C6E0-CD2D-4AB0-A732-4F244514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1906-CB3F-4E02-B9BA-0EB8CA08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EAC8-FD0C-4F21-A85A-FAE908F7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AA9A-8957-4217-9BE2-6D47802E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811-69E1-480C-B7E9-9E3FFDB4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7FA-4EA4-465D-BDBE-7FC13D4E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C43-8068-4F2E-AB66-DB775266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670-CC09-4610-8BCB-53714298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E39-1183-48FB-831F-EB598E8C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39A-816F-447C-889F-0C2CAD0E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C6B6C3-DC51-4428-9F20-3FD0928A99E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70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720" y="6245280"/>
            <a:ext cx="1900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2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E4B35-70CC-4B41-AF94-4038DFFCD13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Tahoma"/>
              </a:rPr>
              <a:t>Biomimicry:</a:t>
            </a:r>
            <a:br>
              <a:rPr sz="5400"/>
            </a:br>
            <a:r>
              <a:rPr b="1" lang="en-GB" sz="4000" spc="-1" strike="noStrike">
                <a:solidFill>
                  <a:srgbClr val="ffffb7"/>
                </a:solidFill>
                <a:latin typeface="Tahoma"/>
              </a:rPr>
              <a:t>Integration Not Degradatio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ffffb7"/>
                </a:solidFill>
                <a:latin typeface="Tahoma"/>
              </a:rPr>
              <a:t>Presented By: Sara Wing, Jenny Lee, Lea Malewitz, Tommy C., Hannah N., Kate H., Ilya A., Brandon I., Nick B., Ari R</a:t>
            </a:r>
            <a:r>
              <a:rPr b="0" lang="en-GB" sz="3200" spc="-1" strike="noStrike">
                <a:solidFill>
                  <a:srgbClr val="ffffb7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90720" y="817560"/>
            <a:ext cx="7238880" cy="5049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914400" y="6019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b7"/>
                </a:solidFill>
                <a:latin typeface="Tahoma"/>
              </a:rPr>
              <a:t>http://money.cnn.com/galleries/2007/autos/0702/gallery.future_safety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38512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5639040" cy="5638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1676520" y="60958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b7"/>
                </a:solidFill>
                <a:latin typeface="Tahoma"/>
              </a:rPr>
              <a:t>By: Text editing of Jenny , Lea, and S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ffffb7"/>
                </a:solidFill>
                <a:latin typeface="Tahoma"/>
                <a:ea typeface="Tahmo"/>
              </a:rPr>
              <a:t>Acciording to the Nine Principles of Nature for biomimicry applications, </a:t>
            </a:r>
            <a:r>
              <a:rPr b="0" i="1" lang="en-GB" sz="3000" spc="-1" strike="noStrike">
                <a:solidFill>
                  <a:srgbClr val="ffffb7"/>
                </a:solidFill>
                <a:latin typeface="Tahoma"/>
                <a:ea typeface="Tahmo"/>
              </a:rPr>
              <a:t>Nature…</a:t>
            </a:r>
            <a:br>
              <a:rPr sz="2200"/>
            </a:b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55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6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b7"/>
                </a:solidFill>
                <a:latin typeface="Tahoma"/>
              </a:rPr>
              <a:t>1. Runs on sunlight</a:t>
            </a:r>
            <a:br>
              <a:rPr sz="2400"/>
            </a:br>
            <a:r>
              <a:rPr b="1" lang="en-GB" sz="2400" spc="-1" strike="noStrike">
                <a:solidFill>
                  <a:srgbClr val="ffffb7"/>
                </a:solidFill>
                <a:latin typeface="Tahoma"/>
              </a:rPr>
              <a:t>2. Uses only the energy it needs</a:t>
            </a:r>
            <a:br>
              <a:rPr sz="2400"/>
            </a:br>
            <a:r>
              <a:rPr b="1" lang="en-GB" sz="2400" spc="-1" strike="noStrike">
                <a:solidFill>
                  <a:srgbClr val="ffffb7"/>
                </a:solidFill>
                <a:latin typeface="Tahoma"/>
              </a:rPr>
              <a:t>3. Fits form to function</a:t>
            </a:r>
            <a:br>
              <a:rPr sz="2400"/>
            </a:br>
            <a:r>
              <a:rPr b="1" lang="en-GB" sz="2400" spc="-1" strike="noStrike">
                <a:solidFill>
                  <a:srgbClr val="ffffb7"/>
                </a:solidFill>
                <a:latin typeface="Tahoma"/>
              </a:rPr>
              <a:t>4. Recycles everything</a:t>
            </a:r>
            <a:br>
              <a:rPr sz="2400"/>
            </a:br>
            <a:r>
              <a:rPr b="1" lang="en-GB" sz="2400" spc="-1" strike="noStrike">
                <a:solidFill>
                  <a:srgbClr val="ffffb7"/>
                </a:solidFill>
                <a:latin typeface="Tahoma"/>
              </a:rPr>
              <a:t>5. Rewards cooperation</a:t>
            </a:r>
            <a:br>
              <a:rPr sz="2400"/>
            </a:br>
            <a:r>
              <a:rPr b="1" lang="en-GB" sz="2400" spc="-1" strike="noStrike">
                <a:solidFill>
                  <a:srgbClr val="ffffb7"/>
                </a:solidFill>
                <a:latin typeface="Tahoma"/>
              </a:rPr>
              <a:t>6. Banks on diversity</a:t>
            </a:r>
            <a:br>
              <a:rPr sz="2400"/>
            </a:br>
            <a:r>
              <a:rPr b="1" lang="en-GB" sz="2400" spc="-1" strike="noStrike">
                <a:solidFill>
                  <a:srgbClr val="ffffb7"/>
                </a:solidFill>
                <a:latin typeface="Tahoma"/>
              </a:rPr>
              <a:t>7. Demands local expertise</a:t>
            </a:r>
            <a:br>
              <a:rPr sz="2400"/>
            </a:br>
            <a:r>
              <a:rPr b="1" lang="en-GB" sz="2400" spc="-1" strike="noStrike">
                <a:solidFill>
                  <a:srgbClr val="ffffb7"/>
                </a:solidFill>
                <a:latin typeface="Tahoma"/>
              </a:rPr>
              <a:t>8. Curbs excesses from within</a:t>
            </a:r>
            <a:br>
              <a:rPr sz="2400"/>
            </a:br>
            <a:r>
              <a:rPr b="1" lang="en-GB" sz="2400" spc="-1" strike="noStrike">
                <a:solidFill>
                  <a:srgbClr val="ffffb7"/>
                </a:solidFill>
                <a:latin typeface="Tahoma"/>
              </a:rPr>
              <a:t>9. Taps the power of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800"/>
            </a:br>
            <a:r>
              <a:rPr b="1" i="1" lang="en-GB" sz="2800" spc="-1" strike="noStrike">
                <a:solidFill>
                  <a:srgbClr val="ffffb7"/>
                </a:solidFill>
                <a:latin typeface="Tahoma"/>
              </a:rPr>
              <a:t>"Our greatest responsibility is to be good ancestors." </a:t>
            </a:r>
            <a:br>
              <a:rPr sz="2800"/>
            </a:br>
            <a:br>
              <a:rPr sz="2800"/>
            </a:br>
            <a:r>
              <a:rPr b="1" i="1" lang="en-GB" sz="2800" spc="-1" strike="noStrike">
                <a:solidFill>
                  <a:srgbClr val="ffffb7"/>
                </a:solidFill>
                <a:latin typeface="Tahoma"/>
              </a:rPr>
              <a:t>	</a:t>
            </a:r>
            <a:r>
              <a:rPr b="1" i="1" lang="en-GB" sz="2800" spc="-1" strike="noStrike">
                <a:solidFill>
                  <a:srgbClr val="ffffb7"/>
                </a:solidFill>
                <a:latin typeface="Tahoma"/>
              </a:rPr>
              <a:t>- Jonas Salk - inventor of the polio vaccine.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43873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5181480" cy="6080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 rot="1080000">
            <a:off x="6019920" y="1371600"/>
            <a:ext cx="281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99ccff"/>
                </a:solidFill>
                <a:latin typeface="Tahoma"/>
              </a:rPr>
              <a:t>Janine</a:t>
            </a:r>
            <a:r>
              <a:rPr b="0" lang="en-GB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6000" spc="-1" strike="noStrike">
                <a:solidFill>
                  <a:srgbClr val="99ccff"/>
                </a:solidFill>
                <a:latin typeface="Tahoma"/>
              </a:rPr>
              <a:t>Beny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3244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b7"/>
                </a:solidFill>
                <a:latin typeface="Tahoma"/>
              </a:rPr>
              <a:t>www.naturaledgeproject.n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49040"/>
            <a:ext cx="77724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49520"/>
            <a:ext cx="8229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43200" y="457200"/>
            <a:ext cx="36576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949040"/>
            <a:ext cx="77724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49520"/>
            <a:ext cx="8229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949040"/>
            <a:ext cx="77724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49520"/>
            <a:ext cx="8229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4864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1030320"/>
            <a:ext cx="6934320" cy="4836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1066680" y="58672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b7"/>
                </a:solidFill>
                <a:latin typeface="Tahoma"/>
              </a:rPr>
              <a:t>www.treehugger.c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882720"/>
            <a:ext cx="6477120" cy="5137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295280" y="6019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b7"/>
                </a:solidFill>
                <a:latin typeface="Tahoma"/>
              </a:rPr>
              <a:t>www.johnniemoore.c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" y="1143000"/>
            <a:ext cx="3586320" cy="4781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62360" y="1143000"/>
            <a:ext cx="3872160" cy="480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609480" y="6095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b7"/>
                </a:solidFill>
                <a:latin typeface="Tahoma"/>
              </a:rPr>
              <a:t>http://web.mit.edu/newsoffice/2008/adhesive-0218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onymous</dc:creator>
  <dc:description/>
  <dc:language>en-US</dc:language>
  <cp:lastModifiedBy>Anonymous</cp:lastModifiedBy>
  <cp:revision>0</cp:revision>
  <dc:subject/>
  <dc:title>Biomimicry: Integration Not Degradation</dc:title>
</cp:coreProperties>
</file>